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98E3D-FF32-4069-BCC0-EBD5F6DC0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8"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9"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60027-4D81-4763-827D-AACA7CA61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3"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4"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44948-F145-434D-9D06-9C49EEA2A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6"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7"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8"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1"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EADCB-B902-4D6C-BD6B-0DEFAABC7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B7968-AA25-4342-BB70-54C19782A8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3"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CB8E5-95F1-4B01-A7A1-48FD70479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5"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C1A77-B4FB-409A-8940-1352A4512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7"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8"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A82B0-E5BB-40A5-BB56-3097C8EF4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D8C11-EB43-4380-8BC4-276E94555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2DA3A-62B3-40F2-A9E0-59F779044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2"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3"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4"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669F1-FAC1-4769-BFFE-83F2D890A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DB386-1112-4AD4-A1E3-1683ADCFC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7"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8"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87898-51D3-4536-9C1E-3BD0D0045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1"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2"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9DFE4-1F60-4724-B3C5-544FAE89B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4"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968E2-5B6E-430F-995E-966F59A68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0"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E9B66C-A199-4BD9-B1F7-0C359AA04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2"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4"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5"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7"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E0271-3F69-42B1-9254-6B25E8667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DB9D98-7033-4CCA-B5A9-62DD42E71B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6"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CD8CE8-58FB-4821-AB79-EE8B8A6E95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8"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C5C560-23C9-4314-8079-928865D2BB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0"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1"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9D6082-E8DE-43D7-B9DC-AF79238D7D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AAF9AD-1FE0-4120-A87F-2AB09B7692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D6422-C52F-41EC-BB3A-CC6B7B7FF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71F4A3-7D34-46DC-BF30-86459A53C2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5"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6"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7"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53A12-0E1B-4A29-B91D-AFD62C3A0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9"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0"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1"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ED8AAF-EA16-40FF-92C4-715C881713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2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4"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5"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217465-688E-497A-9620-59E172EF28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27"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8"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77E05E-68A0-4DBC-BEE7-6DAEABEDDA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3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1"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2"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3"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48F786-4AFF-4ED6-9053-3A7B81E92C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35"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6"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7"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8"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9"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40"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0A3979-67FD-45DB-9C87-6465193F1B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C2F609-13DD-4BE3-9236-9FDF20BD1D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9"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65D8A2-0789-4220-817C-0ADE2A729B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1"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5A8A0D-FDD4-4353-ADDB-4A7E72E059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EB042-3441-4759-8436-B49C3326D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3"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64"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C85954-1C7F-4FDE-AC97-96235722DC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99F574-E7CD-4761-98EC-FA4A7F479F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9EF5B9-4A4E-4074-AF12-DE998867E4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69"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0"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A5AD4-EAD7-45D8-A734-4DB9A69074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2"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3"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4"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232136-C5E8-46E9-A2DF-8DD354078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6"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7"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8"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AAC990-4DDC-4AC6-83AC-973F98F3B7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80"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1"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C5418E-61A7-4ED5-98B2-6B3C3C7D8B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8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4"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5"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6"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95D27B-0386-46D4-9ADA-67DCBEB99F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88"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9"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90"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91"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92"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93"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A94699-D80E-40FE-872E-3FB2020C9A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4D9E5-C826-4D34-9BBF-798832C46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C6FB4-B59D-4970-97B4-BF9E02050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21912-CE2A-4579-9A31-174F8F872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1"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2"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CFFA2-2F27-40F8-B33E-A2FCC18F5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82D6C-2108-423A-9A3A-F3F4683C9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87212-5A56-4D95-B794-20B912176B9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43"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44" name="PlaceHolder 3"/>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8367-5071-44D5-B271-F0252E6C3A56}" type="slidenum">
              <a:rPr b="0" lang="ru-RU" sz="1400" spc="-1" strike="noStrike">
                <a:solidFill>
                  <a:srgbClr val="808080"/>
                </a:solidFill>
                <a:latin typeface="Tahoma"/>
              </a:rPr>
              <a:t>&lt;number&gt;</a:t>
            </a:fld>
            <a:endParaRPr b="0" lang="en-US" sz="1400" spc="-1" strike="noStrike">
              <a:solidFill>
                <a:srgbClr val="000000"/>
              </a:solidFill>
              <a:latin typeface="Times New Roman"/>
            </a:endParaRPr>
          </a:p>
        </p:txBody>
      </p:sp>
      <p:grpSp>
        <p:nvGrpSpPr>
          <p:cNvPr id="47" name="Group 7"/>
          <p:cNvGrpSpPr/>
          <p:nvPr/>
        </p:nvGrpSpPr>
        <p:grpSpPr>
          <a:xfrm>
            <a:off x="177840" y="230040"/>
            <a:ext cx="202680" cy="6504120"/>
            <a:chOff x="177840" y="230040"/>
            <a:chExt cx="202680" cy="6504120"/>
          </a:xfrm>
        </p:grpSpPr>
        <p:sp>
          <p:nvSpPr>
            <p:cNvPr id="48" name="Rectangle 8"/>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Rectangle 9"/>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50" name="Group 10"/>
          <p:cNvGrpSpPr/>
          <p:nvPr/>
        </p:nvGrpSpPr>
        <p:grpSpPr>
          <a:xfrm>
            <a:off x="8792640" y="220680"/>
            <a:ext cx="199080" cy="6408000"/>
            <a:chOff x="8792640" y="220680"/>
            <a:chExt cx="199080" cy="6408000"/>
          </a:xfrm>
        </p:grpSpPr>
        <p:sp>
          <p:nvSpPr>
            <p:cNvPr id="51" name="Rectangle 11"/>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Rectangle 12"/>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53" name="Group 13"/>
          <p:cNvGrpSpPr/>
          <p:nvPr/>
        </p:nvGrpSpPr>
        <p:grpSpPr>
          <a:xfrm>
            <a:off x="412920" y="6476400"/>
            <a:ext cx="8686800" cy="229320"/>
            <a:chOff x="412920" y="6476400"/>
            <a:chExt cx="8686800" cy="229320"/>
          </a:xfrm>
        </p:grpSpPr>
        <p:sp>
          <p:nvSpPr>
            <p:cNvPr id="54" name="Rectangle 14"/>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Rectangle 15"/>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56" name="Group 16"/>
          <p:cNvGrpSpPr/>
          <p:nvPr/>
        </p:nvGrpSpPr>
        <p:grpSpPr>
          <a:xfrm>
            <a:off x="76320" y="176040"/>
            <a:ext cx="8745480" cy="161280"/>
            <a:chOff x="76320" y="176040"/>
            <a:chExt cx="8745480" cy="161280"/>
          </a:xfrm>
        </p:grpSpPr>
        <p:sp>
          <p:nvSpPr>
            <p:cNvPr id="57" name="Rectangle 17"/>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Rectangle 18"/>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59" name="Group 19"/>
          <p:cNvGrpSpPr/>
          <p:nvPr/>
        </p:nvGrpSpPr>
        <p:grpSpPr>
          <a:xfrm>
            <a:off x="71280" y="176040"/>
            <a:ext cx="8745480" cy="161280"/>
            <a:chOff x="71280" y="176040"/>
            <a:chExt cx="8745480" cy="161280"/>
          </a:xfrm>
        </p:grpSpPr>
        <p:sp>
          <p:nvSpPr>
            <p:cNvPr id="60" name="Rectangle 20"/>
            <p:cNvSpPr/>
            <p:nvPr/>
          </p:nvSpPr>
          <p:spPr>
            <a:xfrm flipV="1" rot="5400000">
              <a:off x="452412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Rectangle 21"/>
            <p:cNvSpPr/>
            <p:nvPr/>
          </p:nvSpPr>
          <p:spPr>
            <a:xfrm flipV="1" rot="5400000">
              <a:off x="441360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9"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0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2" name="PlaceHolder 3"/>
          <p:cNvSpPr>
            <a:spLocks noGrp="1"/>
          </p:cNvSpPr>
          <p:nvPr>
            <p:ph type="dt" idx="7"/>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type="ftr" idx="8"/>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5"/>
          <p:cNvSpPr>
            <a:spLocks noGrp="1"/>
          </p:cNvSpPr>
          <p:nvPr>
            <p:ph type="sldNum" idx="9"/>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32A0-9230-4CF1-8D96-F7EC2285ABB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41" name="Group 4"/>
          <p:cNvGrpSpPr/>
          <p:nvPr/>
        </p:nvGrpSpPr>
        <p:grpSpPr>
          <a:xfrm>
            <a:off x="177840" y="230040"/>
            <a:ext cx="202680" cy="6504120"/>
            <a:chOff x="177840" y="230040"/>
            <a:chExt cx="202680" cy="6504120"/>
          </a:xfrm>
        </p:grpSpPr>
        <p:sp>
          <p:nvSpPr>
            <p:cNvPr id="142" name="Rectangle 5"/>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Rectangle 6"/>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144" name="Group 7"/>
          <p:cNvGrpSpPr/>
          <p:nvPr/>
        </p:nvGrpSpPr>
        <p:grpSpPr>
          <a:xfrm>
            <a:off x="8792640" y="220680"/>
            <a:ext cx="199080" cy="6408000"/>
            <a:chOff x="8792640" y="220680"/>
            <a:chExt cx="199080" cy="6408000"/>
          </a:xfrm>
        </p:grpSpPr>
        <p:sp>
          <p:nvSpPr>
            <p:cNvPr id="145" name="Rectangle 8"/>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Rectangle 9"/>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147" name="Group 10"/>
          <p:cNvGrpSpPr/>
          <p:nvPr/>
        </p:nvGrpSpPr>
        <p:grpSpPr>
          <a:xfrm>
            <a:off x="412920" y="6476400"/>
            <a:ext cx="8686800" cy="229320"/>
            <a:chOff x="412920" y="6476400"/>
            <a:chExt cx="8686800" cy="229320"/>
          </a:xfrm>
        </p:grpSpPr>
        <p:sp>
          <p:nvSpPr>
            <p:cNvPr id="148" name="Rectangle 11"/>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Rectangle 12"/>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150" name="Group 13"/>
          <p:cNvGrpSpPr/>
          <p:nvPr/>
        </p:nvGrpSpPr>
        <p:grpSpPr>
          <a:xfrm>
            <a:off x="76320" y="176040"/>
            <a:ext cx="8745480" cy="161280"/>
            <a:chOff x="76320" y="176040"/>
            <a:chExt cx="8745480" cy="161280"/>
          </a:xfrm>
        </p:grpSpPr>
        <p:sp>
          <p:nvSpPr>
            <p:cNvPr id="151" name="Rectangle 14"/>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Rectangle 15"/>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15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54"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55" name="PlaceHolder 3"/>
          <p:cNvSpPr>
            <a:spLocks noGrp="1"/>
          </p:cNvSpPr>
          <p:nvPr>
            <p:ph type="dt" idx="10"/>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type="ftr" idx="11"/>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5"/>
          <p:cNvSpPr>
            <a:spLocks noGrp="1"/>
          </p:cNvSpPr>
          <p:nvPr>
            <p:ph type="sldNum" idx="12"/>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F59C-0E66-4FC8-861D-BDDA6E45C5B5}" type="slidenum">
              <a:rPr b="0" lang="ru-RU"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611280" y="692280"/>
            <a:ext cx="8316720" cy="54720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Лекция  Медиация как технология регулирования конфликта</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Понятие медиации</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Специфика медиации на современном этапе. </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Восстановительная медиация в России</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Официальные и неофициальные медиаторы.</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Тактики медиации.</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Медиация как процесс.</a:t>
            </a:r>
            <a:r>
              <a:rPr b="1" lang="ru-RU"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685800" y="404640"/>
            <a:ext cx="7772400" cy="604872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Tahoma"/>
            </a:endParaRPr>
          </a:p>
          <a:p>
            <a:pPr marL="343080" indent="-343080">
              <a:lnSpc>
                <a:spcPct val="80000"/>
              </a:lnSpc>
              <a:spcBef>
                <a:spcPts val="55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Tahoma"/>
              </a:rPr>
              <a:t>Стандарты восстановительной медиации опираются на междунар. документы: Декларация Ген.Ассамблеи ООН 2002/12 «Об основных принципах использ. программ восстановительного правосудия в уголовных делах», «Рекомендация № R (99) 19 Комитета Министров Совета Европы государствам – членам Совета Европы, посвященная медиации в уголовных делах» (15 сентября 1999), «Рекомендуемые стандарты к программам медиации ровесников, реализуемым в рамках среднеобразовательных учебных заведений», разработанные Ассоциацией по разрешению конфликтов США, «Нац.стандарты для связанных с судом программ медиации» Центра по разрешению споров и Института судебной администрации. Также были учтены модели медиации: медиация интересов, трансформативная медиация, нарративная медиация. </a:t>
            </a:r>
            <a:endParaRPr b="0" lang="en-US" sz="2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5800" y="549360"/>
            <a:ext cx="7772400" cy="53942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Основа восстановительной медиации - концепция восстановительного правосудия, которая реализуется в форме различных практик во многих странах мира. Восстановительное правосудие - новый подход к тому, как обществу необходимо реагировать на преступление.</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685800" y="475920"/>
            <a:ext cx="7772400" cy="5467320"/>
          </a:xfrm>
          <a:prstGeom prst="rect">
            <a:avLst/>
          </a:prstGeom>
          <a:noFill/>
          <a:ln w="0">
            <a:noFill/>
          </a:ln>
        </p:spPr>
        <p:txBody>
          <a:bodyPr anchor="t">
            <a:normAutofit/>
          </a:bodyPr>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дея восстановительного правосудия в том, что всякое преступление должно повлечь обязательства правонарушителя по заглаживанию вреда, нанесенного жертве. Государство и социальное окружение жертвы и правонарушителя должны создавать для этого необходимые условия. Восстановительный подход предполагает активное участие жертвы и обидчика (а также всех затронутых людей) в решение проблем с помощью беспристрастной третьей стороны – медиатора. Только при условии добровольного согласия сторон.</a:t>
            </a: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осстановительный подход противостоит подходу, ориентированному на наказание.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85800" y="620640"/>
            <a:ext cx="7772400" cy="5832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000"/>
                </a:solidFill>
                <a:uFillTx/>
                <a:latin typeface="Tahoma"/>
              </a:rPr>
              <a:t>Принципы восстановительной медиации</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добровольность участия сторон,</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информированность сторон,</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нейтральность медиатора,</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конфиденциальность медиации,</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ответственность сторон и медиатора,</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заглаживание вреда обидчиком,</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самостоятельность служб примирения.</a:t>
            </a:r>
            <a:endParaRPr b="0" lang="en-US" sz="2800" spc="-1" strike="noStrike">
              <a:solidFill>
                <a:srgbClr val="f8f8f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685800" y="620640"/>
            <a:ext cx="7772400" cy="5322960"/>
          </a:xfrm>
          <a:prstGeom prst="rect">
            <a:avLst/>
          </a:prstGeom>
          <a:noFill/>
          <a:ln w="0">
            <a:noFill/>
          </a:ln>
        </p:spPr>
        <p:txBody>
          <a:bodyPr anchor="t">
            <a:normAutofit/>
          </a:bodyPr>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Программы восстановительной медиации могут осуществляться в службах примирения. </a:t>
            </a:r>
            <a:endParaRPr b="0" lang="en-US" sz="2000" spc="-1" strike="noStrike">
              <a:solidFill>
                <a:srgbClr val="f8f8f8"/>
              </a:solidFill>
              <a:latin typeface="Tahoma"/>
            </a:endParaRPr>
          </a:p>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Медиатор не обязательно должен иметь спец. образование (педагога, психолога), но обязательно должен пройти подготовку в качестве медиатора. </a:t>
            </a:r>
            <a:endParaRPr b="0" lang="en-US" sz="2000" spc="-1" strike="noStrike">
              <a:solidFill>
                <a:srgbClr val="f8f8f8"/>
              </a:solidFill>
              <a:latin typeface="Tahoma"/>
            </a:endParaRPr>
          </a:p>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Основные этапы подготовки взрослых медиаторов должны включать в себя: </a:t>
            </a:r>
            <a:endParaRPr b="0" lang="en-US" sz="2000" spc="-1" strike="noStrike">
              <a:solidFill>
                <a:srgbClr val="f8f8f8"/>
              </a:solidFill>
              <a:latin typeface="Tahoma"/>
            </a:endParaRPr>
          </a:p>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Теоретическое обучение медиации, включая специфику восстановительной медиации и знание настоящих стандартов.</a:t>
            </a:r>
            <a:endParaRPr b="0" lang="en-US" sz="2000" spc="-1" strike="noStrike">
              <a:solidFill>
                <a:srgbClr val="f8f8f8"/>
              </a:solidFill>
              <a:latin typeface="Tahoma"/>
            </a:endParaRPr>
          </a:p>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Прохождение тренингового курса по освоению основных навыков медиации;</a:t>
            </a:r>
            <a:endParaRPr b="0" lang="en-US" sz="2000" spc="-1" strike="noStrike">
              <a:solidFill>
                <a:srgbClr val="f8f8f8"/>
              </a:solidFill>
              <a:latin typeface="Tahoma"/>
            </a:endParaRPr>
          </a:p>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Самостоятельное проведение серии медиаций и последующую супервизию </a:t>
            </a: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85800" y="475920"/>
            <a:ext cx="7772400" cy="546732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 сих пор нет единых норм, регулирующих доступ к профессии медиатора. </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Частные учеб. заведения: по специальностям «коммерческий медиатор» и «семейный медиатор». После завершения учебы медиаторы получают свидетельство, а также звание, например, медиатор/BAMF (Федеральное объединение по семейной медиации).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685800" y="476280"/>
            <a:ext cx="7772400" cy="590544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Во многих конфликтах медиация явл. единственной альтернативой суду, который несет очень высокие риски для участников. Кроме того, после юридич. разбирательства стороны разрывают друг с другом. Часто конфликт, который рассматривает суд, лишь вершина айсберга. Разрешение конфликта медиатором - дорогостоящая процедура, однако урегулирование незначительных конфликтов в суде, например, ссор между соседями, гораздо </a:t>
            </a:r>
            <a:r>
              <a:rPr b="1" lang="ru-RU" sz="3200" spc="-1" strike="noStrike">
                <a:solidFill>
                  <a:srgbClr val="ffff00"/>
                </a:solidFill>
                <a:latin typeface="Tahoma"/>
              </a:rPr>
              <a:t>дороже.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68360" y="620280"/>
            <a:ext cx="8207280" cy="5761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8f8f8"/>
                </a:solidFill>
                <a:latin typeface="Tahoma"/>
              </a:rPr>
              <a:t>   </a:t>
            </a:r>
            <a:r>
              <a:rPr b="1" lang="ru-RU" sz="2400" spc="-1" strike="noStrike">
                <a:solidFill>
                  <a:srgbClr val="ffff00"/>
                </a:solidFill>
                <a:latin typeface="Tahoma"/>
              </a:rPr>
              <a:t>В процедуре медиации участвует профессиональный медиатор и две конфликтующие стороны. Процесс медиации характеризуется тем, что стороны в конфликте сами вырабатывают решение проблемы. Медиатор - не третейский судья, он только ведет процесс и ненавязчиво помогает спорящим сторонам в выработке исполняемого решения. Он, руководствуясь своим опытом, знаниями, умением разрешать конфликты, помогает спорщикам выработать такую позицию, которая максимально соответствовала бы интересам спорящих сторон. Т.о., разрешение спора полностью зависит от воли самих спорящих.</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85440" y="620280"/>
            <a:ext cx="8134200" cy="5761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c000"/>
                </a:solidFill>
                <a:uFillTx/>
                <a:latin typeface="Tahoma"/>
              </a:rPr>
              <a:t>Конфликты для суда:</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гда необходимо публичное оглашение конфликта. </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гда одна из сторон хочет использовать суд для наказания др. </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гда существует необходимость судебного контроля за поведением одной из сторон после вынесения решения. </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гда спор включает в себя уголовные и конституционные вопросы.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5440" y="620280"/>
            <a:ext cx="8134200" cy="5545080"/>
          </a:xfrm>
          <a:prstGeom prst="rect">
            <a:avLst/>
          </a:prstGeom>
          <a:noFill/>
          <a:ln w="0">
            <a:noFill/>
          </a:ln>
        </p:spPr>
        <p:txBody>
          <a:bodyPr anchor="t">
            <a:normAutofit/>
          </a:bodyPr>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ahoma"/>
              </a:rPr>
              <a:t>официальные медиаторы:</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межгосударственные организации (ООН),</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государственные правовые институты (арбитражный суд, прокуратура),</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Гос. специализированные комиссии (например, по урегулированию забастовок),</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редставители правоохранительных органов (участковый в бытовых конфликтах),</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руководители структур по отношению к подчиненным,</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общественные организации (профсоюзы),</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рофессиональные медиаторы-конфликтологи,</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социальные психологи.</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5800" y="549360"/>
            <a:ext cx="7772400" cy="5394240"/>
          </a:xfrm>
          <a:prstGeom prst="rect">
            <a:avLst/>
          </a:prstGeom>
          <a:noFill/>
          <a:ln w="0">
            <a:noFill/>
          </a:ln>
        </p:spPr>
        <p:txBody>
          <a:bodyPr anchor="t">
            <a:normAutofit/>
          </a:bodyPr>
          <a:p>
            <a:pPr marL="609480" indent="-6094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Анцупов А.Я., Шипилов А.И. Конфликтология. Учебник для вузов. 3-е изд. СПб.: Питер. - 2008. </a:t>
            </a:r>
            <a:endParaRPr b="0" lang="en-US" sz="2400" spc="-1" strike="noStrike">
              <a:solidFill>
                <a:srgbClr val="f8f8f8"/>
              </a:solidFill>
              <a:latin typeface="Tahoma"/>
            </a:endParaRPr>
          </a:p>
          <a:p>
            <a:pPr marL="609480" indent="-6094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Гришина Н.В. Психология конфликта. 2-е изд. - СПб.: Питер. - 2008 </a:t>
            </a:r>
            <a:endParaRPr b="0" lang="en-US" sz="2400" spc="-1" strike="noStrike">
              <a:solidFill>
                <a:srgbClr val="f8f8f8"/>
              </a:solidFill>
              <a:latin typeface="Tahoma"/>
            </a:endParaRPr>
          </a:p>
          <a:p>
            <a:pPr marL="609480" indent="-6094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зер Л. Основы конфликтологии.- СПб. - 2001. </a:t>
            </a:r>
            <a:endParaRPr b="0" lang="en-US" sz="2400" spc="-1" strike="noStrike">
              <a:solidFill>
                <a:srgbClr val="f8f8f8"/>
              </a:solidFill>
              <a:latin typeface="Tahoma"/>
            </a:endParaRPr>
          </a:p>
          <a:p>
            <a:pPr marL="609480" indent="-6094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Медиация – искусство разрешать конфликты. Знакомство с теорией, методами и профессиональными технологиями / Составители: Г. Мета, Г. Похмелкина / Перевод с нем. Г.Похмелкиной. - Москва: Издательство «VERTE». - 2004. </a:t>
            </a:r>
            <a:endParaRPr b="0" lang="en-US" sz="2400" spc="-1" strike="noStrike">
              <a:solidFill>
                <a:srgbClr val="f8f8f8"/>
              </a:solidFill>
              <a:latin typeface="Tahoma"/>
            </a:endParaRPr>
          </a:p>
          <a:p>
            <a:pPr marL="609480" indent="-6094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сихология деловых конфликтов. Хрестоматия. - Самара: Бахрах-М. - 2007.</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684360" y="836280"/>
            <a:ext cx="7772400" cy="54673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c000"/>
                </a:solidFill>
                <a:uFillTx/>
                <a:latin typeface="Tahoma"/>
              </a:rPr>
              <a:t>Неофициальные медиаторы</a:t>
            </a:r>
            <a:r>
              <a:rPr b="1" lang="ru-RU" sz="2800" spc="-1" strike="noStrike">
                <a:solidFill>
                  <a:srgbClr val="ffff00"/>
                </a:solidFill>
                <a:latin typeface="Tahoma"/>
              </a:rPr>
              <a:t>, к которым можно обратиться за помощью в силу их образования или большого опыта:</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представители религиозных организаций,</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психологи, </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социальные педагоги,</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юристы.</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84360" y="620640"/>
            <a:ext cx="7772400" cy="5616720"/>
          </a:xfrm>
          <a:prstGeom prst="rect">
            <a:avLst/>
          </a:prstGeom>
          <a:noFill/>
          <a:ln w="0">
            <a:noFill/>
          </a:ln>
        </p:spPr>
        <p:txBody>
          <a:bodyPr anchor="t">
            <a:normAutofit/>
          </a:bodyPr>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В роли </a:t>
            </a:r>
            <a:r>
              <a:rPr b="0" lang="ru-RU" sz="2800" spc="-1" strike="noStrike" u="sng">
                <a:solidFill>
                  <a:srgbClr val="ffc000"/>
                </a:solidFill>
                <a:uFillTx/>
                <a:latin typeface="Tahoma"/>
              </a:rPr>
              <a:t>спонтанных медиаторов</a:t>
            </a:r>
            <a:r>
              <a:rPr b="0" lang="ru-RU" sz="2800" spc="-1" strike="noStrike">
                <a:solidFill>
                  <a:srgbClr val="ffc000"/>
                </a:solidFill>
                <a:latin typeface="Tahoma"/>
              </a:rPr>
              <a:t> </a:t>
            </a:r>
            <a:r>
              <a:rPr b="0" lang="ru-RU" sz="2800" spc="-1" strike="noStrike">
                <a:solidFill>
                  <a:srgbClr val="ffff00"/>
                </a:solidFill>
                <a:latin typeface="Tahoma"/>
              </a:rPr>
              <a:t>могут выступать свидетели конфликтов, друзья и родственники, неформальные лидеры и коллеги. Но в этом случае нельзя говорить о профессиональной помощи.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Каково влияние третьей стороны на ход конфликта? Более чем в 50% оно эффективно. Приблизительно в четверти случаев оно никак не отражается на протекании конфликта, а в 10% отмечается отрицательная тенденция.</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685800" y="549360"/>
            <a:ext cx="7772400" cy="5394240"/>
          </a:xfrm>
          <a:prstGeom prst="rect">
            <a:avLst/>
          </a:prstGeom>
          <a:noFill/>
          <a:ln w="0">
            <a:noFill/>
          </a:ln>
        </p:spPr>
        <p:txBody>
          <a:bodyPr anchor="t">
            <a:normAutofit fontScale="98000"/>
          </a:bodyPr>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Факторы, увеличивающие положительное влияние медиатор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ориентированность сторон на компромисс,</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заинтересованность и высокая профессиональная подготовка медиатор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настойчивость действий медиатор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ысокая степень напряженности конфликт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скоротечность конфликт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Тактики воздействия медиатора на стороны:</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тактика поочередного выслушивания,</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ирективное воздействие,</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сделк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авление на одного из оппонентов,</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челночная дипломатия.</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85800" y="549360"/>
            <a:ext cx="7772400" cy="5394240"/>
          </a:xfrm>
          <a:prstGeom prst="rect">
            <a:avLst/>
          </a:prstGeom>
          <a:noFill/>
          <a:ln w="0">
            <a:noFill/>
          </a:ln>
        </p:spPr>
        <p:txBody>
          <a:bodyPr anchor="t">
            <a:normAutofit/>
          </a:bodyPr>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Тактика поочередного выслушивания - для уяснения ситуации и выслушивания предложений в период острого конфликта, когда разъединение сторон невозможно</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ирективное воздействие - внимание на слабых моментах в позициях оппонентов. Цель - склонение к примирению</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Сделка - посредник стремится вести переговоры с участием обеих сторон</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авление на одного из оппонентов - посредник доказывает одному из оппонентов ошибочность его позиции</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Челночная дипломатия - медиатор разделяет конфликтующие стороны и постоянно курсирует между ними, согласуя их решения.</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685800" y="475920"/>
            <a:ext cx="7772400" cy="54673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c000"/>
                </a:solidFill>
                <a:uFillTx/>
                <a:latin typeface="Tahoma"/>
              </a:rPr>
              <a:t>правила:</a:t>
            </a:r>
            <a:endParaRPr b="0" lang="en-US" sz="32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быть нейтральным по отношению к оппонентам и подчеркивать это,</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не давать оценок позициям,</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соблюдать конфиденциальность,</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работать с процессом (организовывать его течение, переговоры), а не с решением,</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ограничить число участников конфликта,</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нфиденциально поговорить с наиболее конфликтной личностью.</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684360" y="765000"/>
            <a:ext cx="7772400" cy="54007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c000"/>
                </a:solidFill>
                <a:uFillTx/>
                <a:latin typeface="Tahoma"/>
              </a:rPr>
              <a:t>Медиация необходима в следующих случаях:</a:t>
            </a:r>
            <a:endParaRPr b="0" lang="en-US" sz="2400" spc="-1" strike="noStrike">
              <a:solidFill>
                <a:srgbClr val="f8f8f8"/>
              </a:solidFill>
              <a:latin typeface="Tahoma"/>
            </a:endParaRPr>
          </a:p>
          <a:p>
            <a:pPr marL="339480" indent="-3394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гда необходимо прийти к решению в результате переговоров и закрепить его документально </a:t>
            </a:r>
            <a:endParaRPr b="0" lang="en-US" sz="2400" spc="-1" strike="noStrike">
              <a:solidFill>
                <a:srgbClr val="f8f8f8"/>
              </a:solidFill>
              <a:latin typeface="Tahoma"/>
            </a:endParaRPr>
          </a:p>
          <a:p>
            <a:pPr marL="339480" indent="-3394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гда между сторонами есть договоренности, которые они не могут раскрывать третьим лицам (а тем более в суде) и хотят сохранить конфиденциальность </a:t>
            </a:r>
            <a:endParaRPr b="0" lang="en-US" sz="2400" spc="-1" strike="noStrike">
              <a:solidFill>
                <a:srgbClr val="f8f8f8"/>
              </a:solidFill>
              <a:latin typeface="Tahoma"/>
            </a:endParaRPr>
          </a:p>
          <a:p>
            <a:pPr marL="339480" indent="-3394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гда раздражение и эмоции препятствуют эффективному общению сторон </a:t>
            </a:r>
            <a:endParaRPr b="0" lang="en-US" sz="2400" spc="-1" strike="noStrike">
              <a:solidFill>
                <a:srgbClr val="f8f8f8"/>
              </a:solidFill>
              <a:latin typeface="Tahoma"/>
            </a:endParaRPr>
          </a:p>
          <a:p>
            <a:pPr marL="339480" indent="-3394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гда стороны ограниченны временными рамками и экономят средства </a:t>
            </a:r>
            <a:endParaRPr b="0" lang="en-US" sz="2400" spc="-1" strike="noStrike">
              <a:solidFill>
                <a:srgbClr val="f8f8f8"/>
              </a:solidFill>
              <a:latin typeface="Tahoma"/>
            </a:endParaRPr>
          </a:p>
          <a:p>
            <a:pPr marL="339480" indent="-3394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гда стороны хотят оставаться в партнерских или добрых отношениях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685800" y="691920"/>
            <a:ext cx="7772400" cy="5251320"/>
          </a:xfrm>
          <a:prstGeom prst="rect">
            <a:avLst/>
          </a:prstGeom>
          <a:noFill/>
          <a:ln w="0">
            <a:noFill/>
          </a:ln>
        </p:spPr>
        <p:txBody>
          <a:bodyPr anchor="t">
            <a:normAutofit/>
          </a:bodyPr>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c000"/>
                </a:solidFill>
                <a:uFillTx/>
                <a:latin typeface="Tahoma"/>
              </a:rPr>
              <a:t>Выделяют пять типов медиаторов:</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третейский судья»</a:t>
            </a:r>
            <a:r>
              <a:rPr b="1" lang="ru-RU" sz="2400" spc="-1" strike="noStrike">
                <a:solidFill>
                  <a:srgbClr val="f8f8f8"/>
                </a:solidFill>
                <a:latin typeface="Tahoma"/>
              </a:rPr>
              <a:t> </a:t>
            </a:r>
            <a:r>
              <a:rPr b="1" lang="ru-RU" sz="2400" spc="-1" strike="noStrike">
                <a:solidFill>
                  <a:srgbClr val="ffff00"/>
                </a:solidFill>
                <a:latin typeface="Tahoma"/>
              </a:rPr>
              <a:t>- обладает максимальными возможностями для решения проблемы. Он изучает проблему всесторонне и его решение не обжалуется;</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арбитр»</a:t>
            </a:r>
            <a:r>
              <a:rPr b="1" lang="ru-RU" sz="2400" spc="-1" strike="noStrike">
                <a:solidFill>
                  <a:srgbClr val="ffff00"/>
                </a:solidFill>
                <a:latin typeface="Tahoma"/>
              </a:rPr>
              <a:t> - то же самое, но стороны могут не согласиться с его решением и обратиться к другому;</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посредник» </a:t>
            </a:r>
            <a:r>
              <a:rPr b="1" lang="ru-RU" sz="2400" spc="-1" strike="noStrike">
                <a:solidFill>
                  <a:srgbClr val="ffff00"/>
                </a:solidFill>
                <a:latin typeface="Tahoma"/>
              </a:rPr>
              <a:t>- нейтральная роль. Обладает специальными знаниями и обеспечивает разрешение конфликта. Но окончательное решение принадлежит оппонентам;</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помощник»</a:t>
            </a:r>
            <a:r>
              <a:rPr b="1" lang="ru-RU" sz="2400" spc="-1" strike="noStrike">
                <a:solidFill>
                  <a:srgbClr val="ffff00"/>
                </a:solidFill>
                <a:latin typeface="Tahoma"/>
              </a:rPr>
              <a:t> - организует встречу, но не участвует в обсуждении;</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наблюдатель»</a:t>
            </a:r>
            <a:r>
              <a:rPr b="1" lang="ru-RU" sz="2400" spc="-1" strike="noStrike">
                <a:solidFill>
                  <a:srgbClr val="f8f8f8"/>
                </a:solidFill>
                <a:latin typeface="Tahoma"/>
              </a:rPr>
              <a:t> </a:t>
            </a:r>
            <a:r>
              <a:rPr b="1" lang="ru-RU" sz="2400" spc="-1" strike="noStrike">
                <a:solidFill>
                  <a:srgbClr val="ffff00"/>
                </a:solidFill>
                <a:latin typeface="Tahoma"/>
              </a:rPr>
              <a:t>- своим присутствием в зоне конфликта смягчает его течение.</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108000" y="0"/>
            <a:ext cx="9036000" cy="6858000"/>
          </a:xfrm>
          <a:prstGeom prst="rect">
            <a:avLst/>
          </a:prstGeom>
          <a:noFill/>
          <a:ln w="0">
            <a:noFill/>
          </a:ln>
        </p:spPr>
        <p:txBody>
          <a:bodyPr anchor="t">
            <a:normAutofit/>
          </a:bodyPr>
          <a:p>
            <a:pPr marL="343080" indent="-343080" algn="ctr">
              <a:lnSpc>
                <a:spcPct val="8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c000"/>
                </a:solidFill>
                <a:uFillTx/>
                <a:latin typeface="Tahoma"/>
              </a:rPr>
              <a:t>Функции медиатора:</a:t>
            </a:r>
            <a:endParaRPr b="0" lang="en-US" sz="32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1. Оценщик конфликтов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2. Активный слушатель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3. Беспристрастный организатор процесса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4. Генератор альтернативных предложений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5. Расширитель ресурсов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6. Испытатель реалистичности и выполнимости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7. Помощник в выработке сторонами окончательной договоренности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8. Обучающий процессу партнерских переговоров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85800" y="691920"/>
            <a:ext cx="7772400" cy="5251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Tahoma"/>
              </a:rPr>
              <a:t>Анита фон Хертел: 6 сценариев медиации:</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Классическая медиация</a:t>
            </a:r>
            <a:r>
              <a:rPr b="0" lang="ru-RU" sz="3200" spc="-1" strike="noStrike">
                <a:solidFill>
                  <a:srgbClr val="00b0f0"/>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Внутрисистемная медиация</a:t>
            </a:r>
            <a:r>
              <a:rPr b="0" lang="ru-RU" sz="3200" spc="-1" strike="noStrike">
                <a:solidFill>
                  <a:srgbClr val="00b0f0"/>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Ноу-хау для комплексных случаев</a:t>
            </a:r>
            <a:r>
              <a:rPr b="0" lang="ru-RU" sz="3200" spc="-1" strike="noStrike">
                <a:solidFill>
                  <a:srgbClr val="00b0f0"/>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Адвокатское посредничество</a:t>
            </a:r>
            <a:r>
              <a:rPr b="0" lang="ru-RU" sz="3200" spc="-1" strike="noStrike">
                <a:solidFill>
                  <a:srgbClr val="00b0f0"/>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Посредничество в переговорах</a:t>
            </a:r>
            <a:r>
              <a:rPr b="0" lang="ru-RU" sz="3200" spc="-1" strike="noStrike">
                <a:solidFill>
                  <a:srgbClr val="00b0f0"/>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Osamaru </a:t>
            </a: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оугольник 3"/>
          <p:cNvSpPr/>
          <p:nvPr/>
        </p:nvSpPr>
        <p:spPr>
          <a:xfrm>
            <a:off x="0" y="115920"/>
            <a:ext cx="9144000" cy="637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Классическая медиация - начинается с соглашения сторон и оканчивается подлежащим исполнению договором. Она дополняет возможности судебного регулирования, распутывает конфликт, налаживает связи и приводит к согласию.</a:t>
            </a:r>
            <a:endParaRPr b="0" lang="en-US" sz="18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Внутрисистемная медиация - медиатор поддерживает стороны как третье лицо, но является частью конфликтующей системы. Например, директор по персоналу - помогает раз-решить конфликт между двумя сотрудниками.</a:t>
            </a:r>
            <a:endParaRPr b="0" lang="en-US" sz="18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Ноу-хау для комплексных случаев - творческие методы решения конфликта. Работа медиатора отличается от классических процедур и подходит только для конкретных клиентов.</a:t>
            </a:r>
            <a:endParaRPr b="0" lang="en-US" sz="18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Адвокатское посредничество - медиатором фактически выступает адвокат или адвокаты сторон. Адвокат работает в этом случае как юрист и как посредник. Он задает вопросы как медиатор и регулирует обсуждение спорных вопросов. </a:t>
            </a:r>
            <a:endParaRPr b="0" lang="en-US" sz="18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Посредничество в переговорах - у большинства переговоров цель - договориться с партнером. В медиации - также договориться с партнером. Медиатор может внести в переговоры юмор, описание процесса со стороны. Медиатор заметит и отметит позиции сторон, их интересы и возможности. Это - то, что нужно!</a:t>
            </a:r>
            <a:endParaRPr b="0" lang="en-US" sz="18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Osamaru - делаться лучше (по-японски) - хорошим выбором может стать работа над собой с коучером (индивидуальным тренером) или медиатором. Изменение себя тоже может стать средством приглушения конфликта. Работа над конфликтом ведется без вашего партнера по конфликту. Это помогает изменить Ваше поведение в конфликте - и как следствие - меняет всю ситуацию. Это может помочь, если другие способы медиации применить невозможно.</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685800" y="404640"/>
            <a:ext cx="7772400" cy="5904000"/>
          </a:xfrm>
          <a:prstGeom prst="rect">
            <a:avLst/>
          </a:prstGeom>
          <a:noFill/>
          <a:ln w="0">
            <a:noFill/>
          </a:ln>
        </p:spPr>
        <p:txBody>
          <a:bodyPr anchor="t">
            <a:normAutofit/>
          </a:bodyPr>
          <a:p>
            <a:pPr marL="343080" indent="-343080" algn="ctr">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c000"/>
                </a:solidFill>
                <a:uFillTx/>
                <a:latin typeface="Tahoma"/>
              </a:rPr>
              <a:t>Медиация (посредничество) - </a:t>
            </a:r>
            <a:r>
              <a:rPr b="1" lang="ru-RU" sz="2800" spc="-1" strike="noStrike">
                <a:solidFill>
                  <a:srgbClr val="ffff00"/>
                </a:solidFill>
                <a:latin typeface="Tahoma"/>
              </a:rPr>
              <a:t>переговоры между двумя конфликтующими сторонами в присутствии третьего лица (медиатора), который следит, чтобы переговоры велись в определенных структурированных рамках. В психологии термин «консультация» - медиация как метод коммуникации, направленный на разрешение конфликта. Этот процесс называется также урегулированием спора.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07640" y="115560"/>
            <a:ext cx="9072360" cy="65530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c000"/>
                </a:solidFill>
                <a:uFillTx/>
                <a:latin typeface="Tahoma"/>
              </a:rPr>
              <a:t>Стадии:</a:t>
            </a:r>
            <a:endParaRPr b="0" lang="en-US" sz="3200" spc="-1" strike="noStrike">
              <a:solidFill>
                <a:srgbClr val="f8f8f8"/>
              </a:solidFill>
              <a:latin typeface="Tahom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1. Формирование структуры и доверия</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2. Анализ фактов и выявление проблем</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3. Поиск альтернатив</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4. Переговоры и принятие решения</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5. Составление итогового документа</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6. Правовая процедура и утверждение соглашения</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7. Выполнение, пересмотр и коррективы соглашения</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4560" y="0"/>
            <a:ext cx="9109080" cy="6858000"/>
          </a:xfrm>
          <a:prstGeom prst="rect">
            <a:avLst/>
          </a:prstGeom>
          <a:noFill/>
          <a:ln w="0">
            <a:noFill/>
          </a:ln>
        </p:spPr>
        <p:txBody>
          <a:bodyPr anchor="t">
            <a:normAutofit/>
          </a:bodyPr>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Федеральный закон от 27.07.2010 N 193-ФЗ "Об альтернативной процедуре урегулирования споров с участием посредника (процедуре медиации)" с изменениями и дополнениями, вступающими в силу с 01.09.2013 года.</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О некоторых вопросах применения закона № 198-ФЗ рекомендуем:</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Справка о практике применения судами Федерального закона от 27 июля 2010 г. N 193-ФЗ "Об альтернативной процедуре урегулирования споров с участием посредника (процедуре медиации)" за период с 2013 по 2014 год" (утверждена Президиумом Верховного Суда РФ 01.04.2015 года)</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27 июля 2010 года</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N 193-ФЗ</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РОССИЙСКАЯ ФЕДЕРАЦИЯ</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ФЕДЕРАЛЬНЫЙ ЗАКОН</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ОБ АЛЬТЕРНАТИВНОЙ ПРОЦЕДУРЕ УРЕГУЛИРОВАНИЯ СПОРОВ</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С УЧАСТИЕМ ПОСРЕДНИКА (ПРОЦЕДУРЕ МЕДИАЦИИ)</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Принят Государственной Думой 7 июля 2010 года</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Одобрен Советом Федерации 14 июля 2010 года</a:t>
            </a: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685800" y="549360"/>
            <a:ext cx="7989840" cy="57592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Перевод слова </a:t>
            </a:r>
            <a:r>
              <a:rPr b="1" lang="ru-RU" sz="2800" spc="-1" strike="noStrike">
                <a:solidFill>
                  <a:srgbClr val="ffc000"/>
                </a:solidFill>
                <a:latin typeface="Tahoma"/>
              </a:rPr>
              <a:t>«mediation» </a:t>
            </a:r>
            <a:r>
              <a:rPr b="1" lang="ru-RU" sz="2800" spc="-1" strike="noStrike">
                <a:solidFill>
                  <a:srgbClr val="ffff00"/>
                </a:solidFill>
                <a:latin typeface="Tahoma"/>
              </a:rPr>
              <a:t>как посредничество». </a:t>
            </a:r>
            <a:endParaRPr b="0" lang="en-US" sz="2800" spc="-1" strike="noStrike">
              <a:solidFill>
                <a:srgbClr val="f8f8f8"/>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Синоним </a:t>
            </a:r>
            <a:r>
              <a:rPr b="1" lang="ru-RU" sz="2800" spc="-1" strike="noStrike">
                <a:solidFill>
                  <a:srgbClr val="ffc000"/>
                </a:solidFill>
                <a:latin typeface="Tahoma"/>
              </a:rPr>
              <a:t>«conciliation»</a:t>
            </a:r>
            <a:r>
              <a:rPr b="1" lang="ru-RU" sz="2800" spc="-1" strike="noStrike">
                <a:solidFill>
                  <a:srgbClr val="ffff00"/>
                </a:solidFill>
                <a:latin typeface="Tahoma"/>
              </a:rPr>
              <a:t>, которое в юридическом смысле означает примирение сторон. Американские организации (напр., U.S. Equal Employment Opportunity Commission), указывают, что медиатор только способствует сближению позиций спорящих, но сам не предлагает готовые рецепты примирения.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755640" y="549360"/>
            <a:ext cx="7772400" cy="5904000"/>
          </a:xfrm>
          <a:prstGeom prst="rect">
            <a:avLst/>
          </a:prstGeom>
          <a:noFill/>
          <a:ln w="0">
            <a:noFill/>
          </a:ln>
        </p:spPr>
        <p:txBody>
          <a:bodyPr anchor="t">
            <a:normAutofit fontScale="98000"/>
          </a:bodyPr>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Медиация возникла в США в 60-х гг. </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Без медиаторов в экономике, политике, бизнесе в США не проходит ни один переговорный процесс. </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Ежеквартальный журнал по медиации»). </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Национальный инст-т разрешения диспутов.</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Частные и госслужбы медиации. </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Единый закон о медиации (Uniform Mediation Act), объединивший более 2500 существовавших в США законов, регулировавших посредническую деятельность в различных Штатах.</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ООН опубликовала для хозяйственного права Модельный закон о международных коммерческих примирительных процедурах.</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85800" y="549360"/>
            <a:ext cx="7772400" cy="53942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Европейская комиссия в 2004 г. поддержала Кодекс поведения для медиаторов, разработанный для того, чтобы медиация получила больше доверия в отдельных европейский странах.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истема медиации слабо распространена в Европе, особенно в Германии.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85800" y="549360"/>
            <a:ext cx="7772400" cy="5394240"/>
          </a:xfrm>
          <a:prstGeom prst="rect">
            <a:avLst/>
          </a:prstGeom>
          <a:noFill/>
          <a:ln w="0">
            <a:noFill/>
          </a:ln>
        </p:spPr>
        <p:txBody>
          <a:bodyPr anchor="t">
            <a:normAutofit/>
          </a:bodyPr>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нцепция медиации успешно применяется в Австралии: обязательный характер, за исключением судебных разбирательств - случаи насилия, преступления на сексуальной почве и особо тяжкие уголовные преступления. Будущие медиаторы проходят долгий и сложный процесс отбора. Наряду с медиатором очень важную роль играет лицо, принимающее заявки на медиацию (intake). Это лицо несет ответственность за рассмотрение, распределение и сортировку заявок.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85800" y="620640"/>
            <a:ext cx="7772400" cy="5322960"/>
          </a:xfrm>
          <a:prstGeom prst="rect">
            <a:avLst/>
          </a:prstGeom>
          <a:noFill/>
          <a:ln w="0">
            <a:noFill/>
          </a:ln>
        </p:spPr>
        <p:txBody>
          <a:bodyPr anchor="t">
            <a:normAutofit fontScale="94000"/>
          </a:bodyPr>
          <a:p>
            <a:pPr marL="322200" indent="-3222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В России применение медиации как способа разрешения коммерческих споров впервые закреплено в нормах Арбитражного процессуального кодекса 2002 г.</a:t>
            </a:r>
            <a:endParaRPr b="0" lang="en-US" sz="3200" spc="-1" strike="noStrike">
              <a:solidFill>
                <a:srgbClr val="f8f8f8"/>
              </a:solidFill>
              <a:latin typeface="Tahoma"/>
            </a:endParaRPr>
          </a:p>
          <a:p>
            <a:pPr marL="322200" indent="-3222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Элементы медиации присутствуют во многих формах нотариальной деятельности. Однако закон не предусматривает прямую обязанность нотариусов к посредничеству.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85800" y="476280"/>
            <a:ext cx="7772400" cy="5905440"/>
          </a:xfrm>
          <a:prstGeom prst="rect">
            <a:avLst/>
          </a:prstGeom>
          <a:noFill/>
          <a:ln w="0">
            <a:noFill/>
          </a:ln>
        </p:spPr>
        <p:txBody>
          <a:bodyPr anchor="t">
            <a:normAutofit fontScale="98000"/>
          </a:bodyPr>
          <a:p>
            <a:pPr marL="335880" indent="-3358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Всероссийской ассоциацией восстановительной медиации разработаны и утверждены Стандарты восстановительной медиации как руководство и источник информации для медиаторов, руководителей и специалистов служб примирения и органов управления различных ведомств, а также других специалистов и организаций, заинтересованных в развитии восстановительной медиации в </a:t>
            </a:r>
            <a:r>
              <a:rPr b="1" lang="ru-RU" sz="3200" spc="-1" strike="noStrike">
                <a:solidFill>
                  <a:srgbClr val="ffff00"/>
                </a:solidFill>
                <a:latin typeface="Tahoma"/>
              </a:rPr>
              <a:t>России.</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20:18:39Z</dcterms:created>
  <dc:creator>1</dc:creator>
  <dc:description/>
  <dc:language>en-US</dc:language>
  <cp:lastModifiedBy>Admin</cp:lastModifiedBy>
  <dcterms:modified xsi:type="dcterms:W3CDTF">2023-07-10T14:53:47Z</dcterms:modified>
  <cp:revision>95</cp:revision>
  <dc:subject/>
  <dc:title>Создание и развитие рыночных институтов, обеспечивающих конкурентоспособность экономики</dc:title>
</cp:coreProperties>
</file>